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991-FF63-40EF-886A-4E6F814C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65E-4023-4255-B4D7-0247A859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2B9-0F7B-4627-9ADD-C8A4CA92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60DA-78C1-45FC-82BB-6BBF46F4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79A-E0AD-4E1E-8434-5777E07D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576A-7EAB-4596-9D62-BB101FEC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744-D28C-4486-B64E-E2F16305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E946-8E79-4654-86E2-F9491924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307-8605-450A-860C-73F37C30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195-DD14-40DC-B6DA-EFA8E17A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C42F-3244-4322-B87A-40A23A4C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4BC-CE25-4D7A-9471-98F6E172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D59E-3488-4476-9E89-3FB523BB4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rave little toa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Coley Col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有一只勇敢的面包机，他去远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blt.jpg"/>
          <p:cNvPicPr/>
          <p:nvPr/>
        </p:nvPicPr>
        <p:blipFill>
          <a:blip r:embed="rId1"/>
          <a:stretch/>
        </p:blipFill>
        <p:spPr>
          <a:xfrm>
            <a:off x="465120" y="1911240"/>
            <a:ext cx="4022640" cy="3903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was a brave little toa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went on a h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们被一个坏人追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brave-little-toaster.jpg"/>
          <p:cNvPicPr/>
          <p:nvPr/>
        </p:nvPicPr>
        <p:blipFill>
          <a:blip r:embed="rId1"/>
          <a:stretch/>
        </p:blipFill>
        <p:spPr>
          <a:xfrm>
            <a:off x="1047600" y="279252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got chased by a bad 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面包机发现原来是毯子开的玩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4" descr="angrytoaster.jpg"/>
          <p:cNvPicPr/>
          <p:nvPr/>
        </p:nvPicPr>
        <p:blipFill>
          <a:blip r:embed="rId1"/>
          <a:stretch/>
        </p:blipFill>
        <p:spPr>
          <a:xfrm>
            <a:off x="457200" y="2336760"/>
            <a:ext cx="4038480" cy="3052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oaster learned it was a trick by blan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跟灯一起计划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4" descr="lampo.jpg"/>
          <p:cNvPicPr/>
          <p:nvPr/>
        </p:nvPicPr>
        <p:blipFill>
          <a:blip r:embed="rId1"/>
          <a:stretch/>
        </p:blipFill>
        <p:spPr>
          <a:xfrm>
            <a:off x="914400" y="2286000"/>
            <a:ext cx="3124080" cy="2754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made a plan with l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将用吸尘器报复毯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4" descr="tapferekleinetoaster01.jpg"/>
          <p:cNvPicPr/>
          <p:nvPr/>
        </p:nvPicPr>
        <p:blipFill>
          <a:blip r:embed="rId1"/>
          <a:stretch/>
        </p:blipFill>
        <p:spPr>
          <a:xfrm>
            <a:off x="533520" y="2057400"/>
            <a:ext cx="3200400" cy="2819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was going to trick blanket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vacu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们把它带到山谷去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they took him to the cany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mess with h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4" descr="canyon.jpg"/>
          <p:cNvPicPr/>
          <p:nvPr/>
        </p:nvPicPr>
        <p:blipFill>
          <a:blip r:embed="rId1"/>
          <a:stretch/>
        </p:blipFill>
        <p:spPr>
          <a:xfrm>
            <a:off x="5357880" y="2362320"/>
            <a:ext cx="2619360" cy="250668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2"/>
          <a:stretch/>
        </p:blipFill>
        <p:spPr>
          <a:xfrm>
            <a:off x="335268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是个很好笑的玩笑，他们都笑了，和好了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as a funny jo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ll laugh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y were all friends a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ww.jpg"/>
          <p:cNvPicPr/>
          <p:nvPr/>
        </p:nvPicPr>
        <p:blipFill>
          <a:blip r:embed="rId1"/>
          <a:stretch/>
        </p:blipFill>
        <p:spPr>
          <a:xfrm>
            <a:off x="0" y="1828800"/>
            <a:ext cx="4610160" cy="3162240"/>
          </a:xfrm>
          <a:prstGeom prst="rect">
            <a:avLst/>
          </a:prstGeom>
          <a:ln w="0">
            <a:noFill/>
          </a:ln>
        </p:spPr>
      </p:pic>
      <p:pic>
        <p:nvPicPr>
          <p:cNvPr id="7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8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17:24Z</dcterms:created>
  <dc:creator>itsuser</dc:creator>
  <dc:description/>
  <dc:language>en-US</dc:language>
  <cp:lastModifiedBy>itsuser</cp:lastModifiedBy>
  <dcterms:modified xsi:type="dcterms:W3CDTF">2009-04-23T15:55:23Z</dcterms:modified>
  <cp:revision>5</cp:revision>
  <dc:subject/>
  <dc:title>The brave little toaster</dc:title>
</cp:coreProperties>
</file>